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FDE-66BA-4C7A-B551-F5BF406E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CD4-4601-4CDB-968A-532336FA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A76-A0D4-4010-8D00-E844E7EC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87F-E782-41A5-8539-26080212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3D0-E3F0-46B8-B219-E7921412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1E6-8809-470E-BDE8-3A544A5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AEA-61DD-434B-81A5-00AFBB3C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AA8-0D44-485C-BCA3-5AF13D4E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C50-3FB2-4142-AC61-5FF284C1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70C-5D1D-4D45-8462-EBEA039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697-42F1-4746-B2EB-452D7EE4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652-FA0A-4F9F-A2BB-B918FA3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8AAC-1B21-4FE1-8B3E-ADD7732D46E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ne Life…Many gift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2 Transplantation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1762200"/>
            <a:ext cx="87854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needs are not being met because of a lack of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re than 4,000 Canadians are waiting for an organ transplant, and thousands more need a tissue trans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00 to 300 Canadians die each year because there are not enough donated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en if someone makes it on the list there is no guarantee that an organ will arrive in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tients on kidney dialysis wait years at a time to get a transplant, if they get one at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tients waiting for a new heart have a 1 in 4 chance of dying while wa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me patients are also taken off the list because they are too ill to undergo the surg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some solutions to the organ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ving donors have become a source of organs in an attempt to address the n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2708280"/>
            <a:ext cx="8893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some solutions to the organ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iving Do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person who donate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 a portion of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someone in need, usually to a relative or a close fri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580000" y="1214280"/>
            <a:ext cx="2336760" cy="1868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895560" y="3213000"/>
            <a:ext cx="25527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are some solutions to the organ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most every one has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d one can be donated  because  only one kidney is necessary to sustain life the life of an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580000" y="1214280"/>
            <a:ext cx="23367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mber of Donors &amp; Patients Waiting For Transplants In Can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0" y="1596960"/>
            <a:ext cx="90345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Number of Organ Donors Per Million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research can help solve the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has been a great deal of work on identifying and growing stem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the stem cells are regulated and controlled in the body is not yet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6193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research can help solve the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searchers are looking at using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 organs and tissu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s one way to help solve the organ shortag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ing on the use of ______________ org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en were the first transplants don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fforts at organ transplantation began in the 195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ere dying from kidney failure, and the newly developed dialysis machines were not readily available nor 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95640" y="4221000"/>
            <a:ext cx="4752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research can help solve the short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ajor challenge is overcoming the immunological barrier when transplants are performed between widely divergent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searchers are also trying to create artificial organs.  (VAD) Ventricular Assist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en were the first transplants don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method of treating patients who have kidney failure to clean the blood and remove waste and excess water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two types of dialys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modi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riton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en were the first transplants don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Calibri"/>
              </a:rPr>
              <a:t>Hemodi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one at the hospital three times a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atients blood is passed through an artificial kidney machine (removing waste produ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152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Hemodi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4392720" cy="496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eritoneal Di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luid is exchanged in the abdominal cavity using a cathe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Usually done at home during the day or through the n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9323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eritoneal Di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changed to make transplants successfu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erything changed in the late 1970’s when a new drug- cyclosporine- was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327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the biggest problem facing transplantation to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has never been a worse time to be on the transplant waiting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re people are waiting than ever before, they are waiting for a longer time, and their chances of dying while waiting have never been so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2:46:42Z</dcterms:created>
  <dc:creator>Jason</dc:creator>
  <dc:description/>
  <dc:language>en-US</dc:language>
  <cp:lastModifiedBy>Jason</cp:lastModifiedBy>
  <dcterms:modified xsi:type="dcterms:W3CDTF">2010-11-09T04:29:02Z</dcterms:modified>
  <cp:revision>9</cp:revision>
  <dc:subject/>
  <dc:title>One Life…Many gifts 5.2 Transplantation Information</dc:title>
</cp:coreProperties>
</file>